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49F-CC5B-43BB-A9AD-99E08A61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8F0-631C-426C-815A-D4CFC237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157-0214-46D6-AE90-F9E66AD5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203-B9A8-48D6-AA69-778BB871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969-398D-494B-8D3B-84B712C1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21C-B151-4131-B838-65CE8620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D39-B37D-457B-BDC9-9C3C4D8C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80C-4C99-4C5E-85F6-4017C510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776-3830-4C21-8025-AD057FD9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F84-7AA5-45AC-9978-80FBDDEB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320-BA73-4A72-9906-ECD8891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E3E-BFBA-4DC7-BCDC-B664F48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48F1-9DB2-4E3C-A89A-BEF47DADE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tive Title , Mabo and W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raft_lens2994292module27085672photo_1239688500Eddie-Mabo"/>
          <p:cNvPicPr/>
          <p:nvPr/>
        </p:nvPicPr>
        <p:blipFill>
          <a:blip r:embed="rId1"/>
          <a:stretch/>
        </p:blipFill>
        <p:spPr>
          <a:xfrm>
            <a:off x="1332000" y="1303200"/>
            <a:ext cx="66247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d Rights and N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76 the Fraser Government passed laws to give Aboriginals land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did not mean that Aboriginals got thei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w did not include States only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terra_nullius_u_350x150"/>
          <p:cNvPicPr/>
          <p:nvPr/>
        </p:nvPicPr>
        <p:blipFill>
          <a:blip r:embed="rId1"/>
          <a:stretch/>
        </p:blipFill>
        <p:spPr>
          <a:xfrm>
            <a:off x="539640" y="3357720"/>
            <a:ext cx="8064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rra Nullius – No on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ain Cook declared Eastern Australia to be the property of the British Mon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1770 at Endeavour River, Queen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nd was assumed to belong to no one TERRA  NULL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original people were completely ign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a Nullius was the reason Justice Blackburn denied the Yolngu claim in 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die Ma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956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die Mabo was a Mu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Torres Strait) Islander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82 Mabo took his land case to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claimed that his people had been owners of their lands for at least 60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se took 11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93 the High Court decided that Mabo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people did own thei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die had died in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elf-portrait of Eddie Mabo, image provided by National Library of Australia"/>
          <p:cNvPicPr/>
          <p:nvPr/>
        </p:nvPicPr>
        <p:blipFill>
          <a:blip r:embed="rId1"/>
          <a:stretch/>
        </p:blipFill>
        <p:spPr>
          <a:xfrm>
            <a:off x="4638600" y="1125360"/>
            <a:ext cx="4505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more Terra Null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die Mabo died before the decision but his people now owned their 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a Nullius had been abo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ve title is now available all over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egister_NTC_A4"/>
          <p:cNvPicPr/>
          <p:nvPr/>
        </p:nvPicPr>
        <p:blipFill>
          <a:blip r:embed="rId1"/>
          <a:stretch/>
        </p:blipFill>
        <p:spPr>
          <a:xfrm>
            <a:off x="4175280" y="1413000"/>
            <a:ext cx="496872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ng and Pastor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Yolngu people began their land struggle against a mining company (Nabalco 19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urindgi people began their struggle against a pastoral (meat) company (Vesteys in 19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Gurindji Mining Lease &amp; Cattle Station, 1970"/>
          <p:cNvPicPr/>
          <p:nvPr/>
        </p:nvPicPr>
        <p:blipFill>
          <a:blip r:embed="rId1"/>
          <a:stretch/>
        </p:blipFill>
        <p:spPr>
          <a:xfrm>
            <a:off x="4356000" y="3716280"/>
            <a:ext cx="4969080" cy="314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840_yolgnu_prog"/>
          <p:cNvPicPr/>
          <p:nvPr/>
        </p:nvPicPr>
        <p:blipFill>
          <a:blip r:embed="rId2"/>
          <a:stretch/>
        </p:blipFill>
        <p:spPr>
          <a:xfrm>
            <a:off x="4565520" y="3425760"/>
            <a:ext cx="11160" cy="6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840_yolgnu_prog"/>
          <p:cNvPicPr/>
          <p:nvPr/>
        </p:nvPicPr>
        <p:blipFill>
          <a:blip r:embed="rId3"/>
          <a:stretch/>
        </p:blipFill>
        <p:spPr>
          <a:xfrm>
            <a:off x="4565520" y="3425760"/>
            <a:ext cx="11160" cy="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The Yolngu are indigenouse Australians who live in the northeast of Arnhem land."/>
          <p:cNvPicPr/>
          <p:nvPr/>
        </p:nvPicPr>
        <p:blipFill>
          <a:blip r:embed="rId4"/>
          <a:stretch/>
        </p:blipFill>
        <p:spPr>
          <a:xfrm>
            <a:off x="4248000" y="1052640"/>
            <a:ext cx="50770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ey,Money,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ustralian economy depends on mining and cattle ra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ll done on Aborigina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oblem of Aboriginal ownership , mining and cattle raising rem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estion was; Can mining and pastoral activity co exist on Aboriginal 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WIK decision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1996 the High Court decided that pastoral leases did not extinguish n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cision established the principle of co exis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iginal people could own their land and negotiate with commercial companies to use that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07:43:01Z</dcterms:created>
  <dc:creator>RUSANJO</dc:creator>
  <dc:description/>
  <dc:language>en-US</dc:language>
  <cp:lastModifiedBy>Bianka</cp:lastModifiedBy>
  <dcterms:modified xsi:type="dcterms:W3CDTF">2012-02-16T02:26:02Z</dcterms:modified>
  <cp:revision>10</cp:revision>
  <dc:subject/>
  <dc:title>Native Title , Mabo and Wik</dc:title>
</cp:coreProperties>
</file>